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893-3F9F-4E3F-890D-C9EF1EAB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498-2989-448C-990C-E892CB95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1E8-1701-456A-9BAC-2359B9B3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454-4B5E-40B3-9F7E-01A80E93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DCD0-493F-4FC4-9B74-2FA9E295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058-39BB-4952-AED2-9AD4B29B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4A9A-BA31-4BD3-802C-36C293A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9DF-5F61-432D-8C34-AFD87560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A76F-1F2F-4ED5-8734-15C02000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76DB-BAD7-41F7-A3AB-0866D9B3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AA4A-F6FB-42E4-AAB3-EE2D64F7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016-C113-4027-A429-D45E8CC8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8F4-E660-41D0-BC1A-C08AD2A3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01ED-602E-43B9-9BDB-8FA60C21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F207-1AE5-4775-9C2E-CAA2CF1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6591-F159-4F62-AD6E-FD94EDDC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0A3A-2931-45D1-B21A-364EBE1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5F3-61F8-4FFD-9DF9-DEDCAD41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C9B-25B1-4F8A-B72B-D3C12AD4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285-D6FA-47D5-9509-004ACAB4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B6A-CB97-45D2-8968-9199C9C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420-D83A-459C-81DE-181C6DB3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999-A586-445A-B323-BB6AF25E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6AA-8270-4982-9CF3-A7E1D53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BE1F-CC80-4870-9820-2ACB42F6EF5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83FA-2BF9-4A61-9AF8-362FD3D934E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How%20to%20Start%20the%20Research.pdf" TargetMode="External"/><Relationship Id="rId2" Type="http://schemas.openxmlformats.org/officeDocument/2006/relationships/hyperlink" Target="file:///Instuction%20to%20Select%20a%20Researh%20Topic.pdf" TargetMode="External"/><Relationship Id="rId3" Type="http://schemas.openxmlformats.org/officeDocument/2006/relationships/hyperlink" Target="file:///Research%20Guide.pdf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onducting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http://www.amazon.com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and Focus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Alternativ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end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nal submission of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and obtain copies of all the relevant material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Process in General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scholarly pap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an initial paper and revise the paper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mplement research idea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coming part of a larger research communit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erenc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For Start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fine the Area of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ine the areas of interes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upply Chain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cent areas of hot analytical re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nterprise resource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ernet security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ust read scholarly journals and technical publication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Combining with Areas of Strength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ta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, read and read more!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7-24T05:54:13Z</dcterms:modified>
  <cp:revision>33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